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26C-3982-4CCA-A0ED-EC03C58D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5C3-73FC-4149-B65A-F5FDEB39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6C2B-A4F4-4AA9-BD6D-09B196B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24467-E86A-4BA9-9903-99827FC5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5751B-631F-4AFF-867B-B347A4B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E051A-1339-4426-BDED-D4CD45D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97F6D-DA03-49DB-9346-0E0D36F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7EA36-6161-4DD1-8A07-D5CED69B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66644-C9AE-49C8-8E97-7D17C10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74661-AD8B-4D9B-9858-15D7619E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2038C-4D00-4E85-94CA-21804ED7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AC742-F1DE-4316-8985-2716A9E3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AAC-5C72-4FF7-8877-E4DAAED7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3DD66-B96E-44A3-AB5F-087FB172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2F017-4075-4AC7-A958-77DF8720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619F0-0FD6-4EEF-AA66-544C5C72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DF161-25B5-4BC2-8558-1D980DAF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3CB4-DE84-4106-942E-6B3BCB0D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D5753-8D03-4806-B7F9-62AE7B5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46813-BAA3-435E-ABA0-CC1F547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CF0CA-3759-4444-B141-FB73AE0A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85E41-37AD-47BC-8DCE-612FAF1B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113E1-E65C-44A1-8655-AFC07B6C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466-DDAD-49CB-80A6-2092E100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7EE50-7E8C-42EB-81F7-3D44CCC9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14AE-7E0C-4B67-BEFC-3B53304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C867C-034E-489C-A3C1-A5BC3254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2AA98-FD95-4099-BA76-07BB7CB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E5150-AC39-4791-A291-3803F7DD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C322F-8CB9-4631-9F0E-B980BFD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E44DF-CE1E-4667-88E3-7A6DAEA6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3947F-C5ED-44FF-942B-BD290200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7C3A2-13EE-4AC4-94D8-28F5BAB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1CE35-1797-4DB1-B0E7-71BAB1F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F9B8-83C8-4A1C-895B-0082341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F132E-1816-4D67-AD85-D1D4070B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4FD65-4CBE-4C33-A0FE-76F7B1AA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261BB-0F9C-42F4-A60D-0B720AC2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712F3-3DF6-4F11-950C-FD9D3ED4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58983-52EB-4D2D-81B8-05441C6E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A0FF6-5E82-4E9F-934A-313BE157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7A48D-E577-4F32-9A03-A1792D9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CD037-B527-483F-AC9F-F508F646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FB377-3311-4221-B6D3-A2F0C17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B57A2-E9FC-4CC9-BE41-69DA7A23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CDAD-6622-41EA-8D83-6044CA1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F0E6F-439F-4D0F-9D8A-7C38978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BFB6D-028E-46AE-AA0A-CD44BAE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278D-8BC7-48BD-A4E5-0E1F735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CC5AA-5381-430F-A599-12535302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C4E3-288F-465C-B3F0-37FC8882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35B5-FE36-44F6-B66B-6B09D4A4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3EAC-573F-4946-A66C-9BC1A924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D7C0-6AA0-4616-930A-E3D0E31D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0945-2AED-4C90-9B38-4F89C182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88EF-9D00-48F0-81DA-607ADA5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5C34-BE76-44E9-AC84-095A67CC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BCE-D44E-4702-944F-B0412D8F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952D-FE88-418D-A8CF-08F4D05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493D-7AFA-48D4-BFFF-C2AC5747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C0A3-1F0D-4BC9-BAA4-8DAAF332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2180-A771-4BC4-994D-5F8AC223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17938-596F-4E02-B01A-D664D7E1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6D23-7519-4A9D-AD39-2074065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4BA10-4318-4ACB-B8F4-B483627A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7B316-0814-4487-A60A-58631E2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CE79-71FC-402C-9D84-A9E37FA8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E05-FEC4-4045-9E7A-EAF8AE1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3A20B-F800-4C6A-97AA-8B71CC5F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B9E9A-430C-4B26-876D-6943441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F0E9-B8B9-4724-AFA3-57B62984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C099-6276-4EFB-9BD8-2F4C6FC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F79CF-9566-4060-8C4B-73F3A927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8481-B5A5-48A4-9852-8B866273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5F26-2DF7-4E8A-99D0-7FB318C8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8064-55B3-4005-BBD5-B0EC5EC4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2D87-1810-42DB-9311-A959A281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BE9B2-5A46-4196-BC2C-8ECAF803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D65-8D8F-4D64-9338-D7436194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575F-5700-4321-98CD-C416FF04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4291F-2BC1-44F6-9851-D37AAC94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BBFC-E746-40FC-BC60-76FCE97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521D1-5FC1-4F74-AAF6-55851C0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11EE-6C7F-49C2-B45B-E7B1CBE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C3B8-59C4-4AEE-9D68-6751AB67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5025-C2DA-4761-A334-2CAA14AC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4DAE-2231-447F-94DD-B04BD067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13F44-CA43-4296-B3F4-3E3059E2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A4886-6384-4449-B3D6-D5BF30C3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2B5-8109-4730-A845-59AFAE8C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68F0-3748-4927-A6F5-D7C003F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9DA73-F3F0-4F33-B655-7C3B7C20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39A51-D944-484A-99DF-03BD1199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0C30-956F-45B4-A84C-4BD6ECEA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768C-85EC-4512-849E-3F0EC90B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ABBF-F621-4A90-8477-94E610B1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3557-30BA-4DDE-9117-6400A364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0717-83E3-4FBF-9CA7-2384F7F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D55F-A6A3-48E2-9223-085450DA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1A6C-57AE-4F55-B930-A7134FE4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8F5-FC1D-4E36-A677-91327572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6ED8-B2D5-42A9-ACD4-4412BB3B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FA50C-0AB0-4319-B43E-4693E7AC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3896-7FDB-4BF5-A5E6-C02E2FD3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752EA-5558-42C5-BB16-0A04C1C2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6E145-1FBC-4D2C-B05F-66CAFBF9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CF82A-A178-490C-B916-00451CD9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8537A-FB09-4408-B888-92531D7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5048C-12CE-411D-822A-0A1BF65A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214CB-E1CF-4BD5-A8FB-C842A33C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08C75-8890-4621-B4AD-70803E5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AC9C-60F8-44C6-9512-EF618B7D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BE8DA-B92B-4CBB-8919-7370059F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7199-78CC-4F45-BE96-9C7BE63E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ABA13-CB44-4F73-99BF-8AFB2FB1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5422-91B6-470D-8044-90CB8738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2364-B9DC-41D0-9168-32027EF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3B0AF-7755-4F13-9F9D-AE8C3DD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0EF1-8C18-44D5-9720-096C60A3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4B260-0D17-4E71-A9D4-2707BB05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2B73-0C68-4461-87BF-62562C61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1CC21-89C1-4383-81BA-3ABCBAB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1FD-73CC-4253-A3AF-AB4DEC54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C69F-A770-49E8-A5EC-F07A93B5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085A5-5ACF-4085-8954-3F26F96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5E383-EA2F-496F-B3F1-FF22AC50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7138-6EB9-452C-9C4B-8C8A2F52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F9DC-D314-4A78-9C51-DBC71F02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E84C5-DF51-46EC-B51F-99A8BF33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62259-BA8B-4D1C-B2E3-84F8CA09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267D-6EE5-4E22-88EA-A4145925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98CB4-B94A-492B-BEA4-516ED4F5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55E8F-8550-4C68-9A3D-E1A1C494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D4D-4931-49C5-AF73-6445944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3620-15FB-4C2C-92BC-63E0A359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FDD8-E774-4079-90D1-9D532745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204B-1BF5-4D16-9F62-0C92DF8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D674-A4D8-40C3-AB67-A51193C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B78CD-A3B5-4312-9EAB-552A7A6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19C94-FAC8-4D20-8B5D-9338D05F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40B22-4B87-4356-A7AA-0FC3A164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B162B-3C5F-4BCA-8B13-813D27A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DCE46-D0EA-4F38-9E31-1BED6B2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76A9-97FC-49A1-84FD-04C81F4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CFE8-4FA1-4573-B26A-FA5DE25B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2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1D5-9467-4200-A4D5-99090CFBE4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09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1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1C8B-3F3A-4316-94F1-38B98D68B7A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6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6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87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ftr" idx="3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5EC-ACDC-40EC-A082-87154E5B2E6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8687-77ED-466A-86C3-68597F05A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AC7A-5F89-4631-8FCB-D8712A809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6A7E-A6D1-462A-8359-FF4A5FE5D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0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8325-3C71-4AC7-94EE-A2E5751000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2665-3048-4DEB-8CA2-98A7332992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9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0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0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B67-0885-47BD-93A9-5DD9BFD8C12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7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7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8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8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C37D-28F3-4B54-A3DB-A804A8FA39D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4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34C-EB2D-4901-9270-50F05ED970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0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CLASE DE ESPANO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Vict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OS ANIMAL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s animales son differente de los otr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648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OS PAIS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LAS PLANET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OS CONTINEN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7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4381560" y="1676520"/>
            <a:ext cx="4762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S CAPIT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4" name="" descr="Play"/>
          <p:cNvPicPr/>
          <p:nvPr/>
        </p:nvPicPr>
        <p:blipFill>
          <a:blip r:embed="rId1"/>
          <a:stretch/>
        </p:blipFill>
        <p:spPr>
          <a:xfrm>
            <a:off x="155520" y="4608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981600" y="1828800"/>
            <a:ext cx="51624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29:57Z</dcterms:created>
  <dc:creator>WSFCS Workstation</dc:creator>
  <dc:description/>
  <dc:language>en-US</dc:language>
  <cp:lastModifiedBy>WSFCS Workstation</cp:lastModifiedBy>
  <dcterms:modified xsi:type="dcterms:W3CDTF">2010-04-26T15:57:36Z</dcterms:modified>
  <cp:revision>3</cp:revision>
  <dc:subject/>
  <dc:title>LA CLASE DE ESPANOL</dc:title>
</cp:coreProperties>
</file>